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344-2AD0-4494-999B-F5AAE89F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B04-1DD7-4381-8DF9-03FB8A41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292-FE9D-45F0-933C-0B45FDC3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352-98D4-4450-A686-E0C12337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F6529-EE29-4D25-8BAA-F907E4B4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03881-E827-4311-A817-4DC53D02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4C66B-D108-4B08-9169-8D3EF304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AEB9D-5BE0-4E5F-9687-07E9EFDA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069C9-4282-4E91-AB04-04D82544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0C455-93C5-4880-B47C-830A1A56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F83CA-B666-4992-B8C5-531C6445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72D-6F0C-407E-83AD-54ED5429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02D81-B44D-464F-B365-81C94FC3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9EBFE-0C37-4B9B-A7A4-65E3957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5E458-B8F7-4DDE-82BC-F13B8D81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69D09-A7C7-4268-B7F8-9FCB4F64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B9623-92F7-4666-8F73-E1E2584B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56C-EAFF-49CB-AFF5-FE85A50A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85F-C7A5-4704-A92D-15758614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2B9-D287-42FF-B338-AFF0F5CF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461-49CE-4621-8F7E-9677877B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E7D-CB3B-4031-8D39-E56C7285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AF3-6A0F-4EFA-8BE4-E9A750F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280-0458-41D0-9311-6CE9AF87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03B5-E143-44C6-B523-9D9EE294F7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30A9-487B-471F-9A99-4BE635D4FF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lish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Learning Profi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92199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Arial"/>
              </a:rPr>
              <a:t>My Personal Learning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My learning style is tactile/kinesthe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is means that I learn best by do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My learning technique is Abstract Sequ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at means that I am realistic, orderly, logical and careful of detai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t’s important to learn how your brain works beca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 can use what I have learned I can do this when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about the way my brain works in school.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ge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371600"/>
            <a:ext cx="72392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 found out that both the left and right hemispheres of my brain are equally dominat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t’s important to learn how your brain works because  I can use it for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 can use what I have learned and  I can do this when I study or choose a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07:44Z</dcterms:created>
  <dc:creator>Stephanie Ann Rhodes</dc:creator>
  <dc:description/>
  <dc:language>en-US</dc:language>
  <cp:lastModifiedBy>Stephanie Ann Rhodes</cp:lastModifiedBy>
  <dcterms:modified xsi:type="dcterms:W3CDTF">2010-10-27T17:59:49Z</dcterms:modified>
  <cp:revision>11</cp:revision>
  <dc:subject/>
  <dc:title>Alisha</dc:title>
</cp:coreProperties>
</file>